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4739-8960-4390-A598-90B8986D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B761-AE40-4100-9E83-644EF5F0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FBF8-1E68-4692-ADF5-DC5FFA8D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437E-2AC7-41AB-AEF5-181D1ABF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10FB-B36F-4A6D-B26C-06A33B44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79F8-516C-45BF-A1D6-E06BDDC4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19E1-810B-441B-BDA6-9F67751E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6024-66F9-42A8-BFE5-8EB1982D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14F4-2C2D-4705-BDCB-BF16A3FD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19CD-7D4F-4AF0-95CB-078020C3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DC75-736C-4F64-BD97-1DDA4A80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B4DB-5AD8-4FAE-839A-01D40302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B3A5-2A0C-4967-9627-2035FC63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3873-C755-4655-A3A4-A24AF50F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300F-FB5B-425F-8A72-2938FB95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4556-3D29-4E22-BC95-6E499983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B9DE-C5BD-4601-9480-F819FBAA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6B70B-AAB3-4B03-A37E-64C0BB76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26FEF-0B1C-4C53-AB0F-266AA424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48C09-C7FD-4ABD-9B9C-EA57AD78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816C6-7677-4256-A6AD-912889FD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00AA7-BCBA-47B1-82F8-C1F56BE4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D4D-8799-46B4-8972-C40552D9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6340E-8CC9-40F6-9E6E-682225EF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C509B-7DB9-4675-BD66-2ED6E100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769EB-8371-4CFA-8C63-677605BE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673DB-AB03-4791-AAB1-FD8C261A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CB590-EC78-4125-8C65-C87458C6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6F175-B248-45E5-ADED-AFD02F50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C745B-3C79-41C8-BA48-30B628D5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5D8-0624-4520-9CBC-291184D9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99E7-36AD-4DED-B786-BEE2F151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87BC-3972-4867-A6F3-98398D82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0BB2-AE86-4497-9090-9365E633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704C-38D3-4AAF-9554-8FFE743D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9413-B26D-4CEC-AC77-CF31C17D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062F-F08D-4A0C-BD31-90C3879B0871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2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0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61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62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3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4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19" descr=""/>
          <p:cNvPicPr/>
          <p:nvPr/>
        </p:nvPicPr>
        <p:blipFill>
          <a:blip r:embed="rId2"/>
          <a:stretch/>
        </p:blipFill>
        <p:spPr>
          <a:xfrm>
            <a:off x="7251840" y="5388120"/>
            <a:ext cx="1065240" cy="1280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355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684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03c72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F072-2C44-4CA3-AFE9-83CCA417E20C}" type="slidenum">
              <a:rPr b="0" lang="zh-CN" sz="1000" spc="-1" strike="noStrike">
                <a:solidFill>
                  <a:srgbClr val="103c7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08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09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0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14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6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7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8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Picture 2" descr="logo%20eu"/>
          <p:cNvPicPr/>
          <p:nvPr/>
        </p:nvPicPr>
        <p:blipFill>
          <a:blip r:embed="rId2"/>
          <a:stretch/>
        </p:blipFill>
        <p:spPr>
          <a:xfrm>
            <a:off x="647640" y="723960"/>
            <a:ext cx="116856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1981080" y="576360"/>
            <a:ext cx="623592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Regional Food Security Seminar Asi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Vientiane, Laos 21st – 25th June 2010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1930320" y="1523880"/>
            <a:ext cx="6540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578E-B748-4C57-B962-333409361B36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C71E-B776-4D12-B55F-664F18C085A9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ZoneTexte 6"/>
          <p:cNvSpPr/>
          <p:nvPr/>
        </p:nvSpPr>
        <p:spPr>
          <a:xfrm>
            <a:off x="647640" y="2057400"/>
            <a:ext cx="7086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napshot of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od Security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In East Timor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965160" y="5245200"/>
            <a:ext cx="4711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U Delegation East Timo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30120" y="1663560"/>
            <a:ext cx="725184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1357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35720" indent="-1357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Under FSTP 2007-2010: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food security programe to tackle immediate causes of food insecurity.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35720" indent="-1357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9 projects in 7 districts targeting 27,000 households.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35720" indent="-1357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Total budget of 12 million Euro.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35720" indent="-1357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Main components/results: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557280" indent="-214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creased food production: improved access to seeds and improved farming system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557280" indent="-214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mproved access to food: alternative sources of incom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557280" indent="-214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mproved food utilization through better knowledg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557280" indent="-214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trengthen community level social safety nets and Disaster management committees at District (DDMC) and Suco level (SDMC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35720" indent="-1357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artners: OXFAM, CARE, World Vision, World Neighbours, HIVOS.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322200" y="1677240"/>
            <a:ext cx="386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the EC respons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80880" y="1892160"/>
            <a:ext cx="725184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501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50120" indent="-150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Under FSTP: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innovative approaches to food insecurity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50120" indent="-150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-3 projects in the areas of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16680" indent="-2372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Grain and seed storage/reduced postharvest losse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16680" indent="-2372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Seed production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16680" indent="-2372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Improved water harvesting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6166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50120" indent="-150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otal budget of 2.2 million Euro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50120" indent="-150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fP to be launched in last quarter of 2010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50120" indent="-1501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Potential partners: NSA, UN (FAO?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22200" y="1677240"/>
            <a:ext cx="386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the EC respons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30120" y="1485720"/>
            <a:ext cx="7251840" cy="31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267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267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Rural Development programmes: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6720" indent="-1267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DP II: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9840" indent="-1998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 million Euro: agriculture (with focus on increased productivity and diversification) and rural roads. Districts of Bobonaro and Covalima. Implemented by GTZ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6720" indent="-1267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DP III: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9840" indent="-1998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9 million Euro: agriculture (with focus on increased productivity and diversification) and rural roads. District of Manufahi. Implemented by Landell Mill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6720" indent="-1267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DP IV (under formulation)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9840" indent="-1998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3.5 million Euro: agriculture (with focus on extension services) and rural roads. In all 13 districts of the country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519840" indent="-1998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mplementation partner to be defined (joint GTZ+IPAD?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22200" y="1600920"/>
            <a:ext cx="386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the EC respons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30120" y="1485720"/>
            <a:ext cx="7251840" cy="31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1213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213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1320" indent="-121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tional and District food security committees 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497520" indent="-19116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ets every three month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497520" indent="-19116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aired by MAF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1320" indent="-121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ational priority 2 (food security) partner meet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497520" indent="-19116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ets every month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497520" indent="-19116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ordinated by WFP and USAID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1320" indent="-121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onor FS harmonization meet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497520" indent="-19116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eets every three month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497520" indent="-19116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haired by MAF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1320" indent="-121320">
              <a:lnSpc>
                <a:spcPts val="2798"/>
              </a:lnSpc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uplication of efforts, lack of coordination outputs, “coordination fatigu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22200" y="1600920"/>
            <a:ext cx="386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FS coordina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79360" y="1206360"/>
            <a:ext cx="725184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1213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21320"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1320" indent="-121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STP and RDP often address similar FS constraints (i.e. availability and access to food)  with different approaches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ere is a need to look for complementarity, coherence and synergies between both programme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(e.g. RDP support to improved seeds programmes is a critical asset for FS projects).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1320" indent="-121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mproved coordination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(increase efficiency: less meetings but results oriented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497520" indent="-19116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thin EC funded programm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497520" indent="-19116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thin the donor commun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1320" indent="-121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uilding up on lessons learned.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1320" indent="-121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mproved inter-ministerial dialogue (MAF and MoH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21320" indent="-121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upport the ongoing decentralization process (more control to district officials on FS issues).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22200" y="1600920"/>
            <a:ext cx="386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the way forwar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79640" y="2981160"/>
            <a:ext cx="6635520" cy="23115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1663560" y="215892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89FF-9B11-4A62-B1E4-A0AF127A93F2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ZoneTexte 2"/>
          <p:cNvSpPr/>
          <p:nvPr/>
        </p:nvSpPr>
        <p:spPr>
          <a:xfrm>
            <a:off x="660240" y="1692360"/>
            <a:ext cx="675648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4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imor Leste, country contex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4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od security, indicators and cause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4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e EC programmes and EU Delega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4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 Response :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371600" indent="-457200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od Security &amp; Rural development projects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49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way forward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830240" y="1362240"/>
          <a:ext cx="6181920" cy="410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0240" y="1362240"/>
                    <a:ext cx="6181920" cy="41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Rectangle 3"/>
          <p:cNvSpPr/>
          <p:nvPr/>
        </p:nvSpPr>
        <p:spPr>
          <a:xfrm>
            <a:off x="1752480" y="4397400"/>
            <a:ext cx="739152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164520" indent="-1645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Size: 15,000 Km2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164520" indent="-1645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opulation: 1.1 M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164520" indent="-1645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Key natural resources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large reserves of oil and gas being exploited jointly by Australia and Timor Leste in the disputed waters of the Timor se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164520" indent="-1645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164520" indent="-1645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334800" y="1423440"/>
            <a:ext cx="3864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country contex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46120" y="217152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999: referendum ends Indonesian occupa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and 25 years of conflict between the FALINTIL independentist guerilla and the Indonensian army (20-25% of population dead or disappeared)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0720" indent="-277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002: the country declares independenc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and elects its first democratic governmen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0720" indent="-277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006: clashes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between the Timorese army and police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0720" indent="-277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ugust 2006: international UN peace mission UNMI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(preceded by other 3 missions since the independence referendum in 1999)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0720" indent="-277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007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second presidential and parlamentar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lections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20720" indent="-27720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008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Coordinated simultaneous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urder attempts against the president and the prime minister perpetrated by ex-army officials.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22200" y="1677240"/>
            <a:ext cx="510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country contex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46120" y="217152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grim picture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DI: 141 among 179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n-oil GDP per capita US$453 (in 2008)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pulation growth 3.5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employment 23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ople living bellow poverty line 49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an oil+gas make a difference?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DP growth in 2008 13.2%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troleum fund: sustainable annual income of US$ 400 million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22200" y="1677240"/>
            <a:ext cx="386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country contex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46120" y="217152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80% population lives in rural areas and relies on subsistence agriculture (although rapid  urbanisation underway)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hildren under 5 suffering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ronic malnutrition 46%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derweight 49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unting 54%  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333399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asting 25%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66% of pregnant mothers suffer from anemia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22200" y="1677240"/>
            <a:ext cx="5413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some figures on food secur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322200" y="1677240"/>
            <a:ext cx="5413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causes of food insecurity I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40120" y="2647080"/>
            <a:ext cx="236196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ood Insecuri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2120" y="3867120"/>
            <a:ext cx="2552760" cy="100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nsufficient foo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64% population suffering from food shortages during the lean season (4 months)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52720" y="3886200"/>
            <a:ext cx="2755800" cy="100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oorly diversified die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75% of households  rely exclusively on maize, rice, cassava and sweet potato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73760" y="3867120"/>
            <a:ext cx="2552760" cy="100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nappropriate utilization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31% exclusive breastfeeding &lt;6 months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3073320"/>
            <a:ext cx="0" cy="47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587600" y="3517920"/>
            <a:ext cx="252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87600" y="353052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14800" y="351792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64040" y="3517920"/>
            <a:ext cx="314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13680" y="3530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322200" y="1677240"/>
            <a:ext cx="5413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causes of food insecurity II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93920" y="3684600"/>
            <a:ext cx="2248200" cy="12207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nsufficient foo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64% population suffering from food shortages during the lean season (4 months)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2120" y="3296160"/>
            <a:ext cx="255276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atic rains and poor water managemen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oor water harvesting or irrigation practice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2120" y="4679640"/>
            <a:ext cx="255276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ow soil fertility, difficult access to inputs, poor agr. practic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52520" y="2310120"/>
            <a:ext cx="2552760" cy="79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mall land holding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25% population less of 0.5 ha.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30560" y="5574240"/>
            <a:ext cx="2552760" cy="79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ost harvest loss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30% to 40% of postharvest losses for rice and maize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46680" y="4794480"/>
            <a:ext cx="2552760" cy="100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ow yielding varieti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No Government policy on research for improved varietie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62680" y="3331080"/>
            <a:ext cx="273060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Government policy on subsidized imported ric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Discouragement to local producer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03680" y="2110320"/>
            <a:ext cx="255276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ack of alternative sources of income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40% of rural unemployment rate, low wages.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06560" y="4064040"/>
            <a:ext cx="292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832120" y="4800600"/>
            <a:ext cx="279360" cy="27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343400" y="50418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5486400" y="4673520"/>
            <a:ext cx="177840" cy="25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575320" y="4038480"/>
            <a:ext cx="34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838400" y="3225960"/>
            <a:ext cx="304920" cy="29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360" y="3213000"/>
            <a:ext cx="279720" cy="27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882880" y="4978440"/>
            <a:ext cx="279360" cy="279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83080" y="5054760"/>
            <a:ext cx="12600" cy="4190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49760" y="4533840"/>
            <a:ext cx="190800" cy="216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016600" y="3263760"/>
            <a:ext cx="266760" cy="2923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80880" y="1892160"/>
            <a:ext cx="725184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13932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39320" indent="-139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In 2005 Timor Leste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joins the ACP-EC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Partnership Agreement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39320" indent="-139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In 2008 the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Delegation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of the European Commission in Timor-Leste are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officially inaugurated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in Dili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39320" indent="-139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In 2008 signature of the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Country Strategy Paper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and National Indicative Programme between the European Union and Timor-Leste (2008-2013) an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indicative allocation of 63 million Euro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(plus addendum for increase in 18 million)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39320" indent="-139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EC is th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urth largest donor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in East Timor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39320" indent="-139320">
              <a:lnSpc>
                <a:spcPts val="2798"/>
              </a:lnSpc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ragile state status until February 2011 (unstable political situation, weak administration, marginal private sector)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322200" y="1677240"/>
            <a:ext cx="386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Timor Leste, the EU delega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Administrator</cp:lastModifiedBy>
  <cp:lastPrinted>2003-11-06T16:40:02Z</cp:lastPrinted>
  <dcterms:modified xsi:type="dcterms:W3CDTF">2010-06-25T01:52:50Z</dcterms:modified>
  <cp:revision>887</cp:revision>
  <dc:subject/>
  <dc:title>No Slide Title</dc:title>
</cp:coreProperties>
</file>